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001-CADD-48E1-99F0-508E63A8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2D1-097F-42CE-84F2-FA7BCF0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B43-2DD4-4150-B6DD-16CE72E7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DB8-1FB8-49E2-976D-EAD5C1B4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EBB-BCF0-4E0D-AB9F-6BAC86A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1A9-48AC-4FB1-A3D8-B15CAAC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1CD-1E15-48C4-B399-1166EC8B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641-0D2A-4904-B244-12270FE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8E7-C3E7-45A2-A591-B790CF1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899-852E-4E82-906D-284928C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07C-99AC-477A-8292-6E3DAC2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50F-1E52-4EF9-90D7-2C1FDC4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BFD-87C1-4DC4-83BC-DFA2B2CA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Genomic%20&amp;%20Phenotypic%20%20Data%20Analysis.html" TargetMode="External"/><Relationship Id="rId5" Type="http://schemas.openxmlformats.org/officeDocument/2006/relationships/hyperlink" Target="file:///../../../Protege/html%20files/Image%20Processing.html" TargetMode="External"/><Relationship Id="rId6" Type="http://schemas.openxmlformats.org/officeDocument/2006/relationships/hyperlink" Target="file:///../../../Protege/html%20files/Image%20Processing.html#direct_instances" TargetMode="External"/><Relationship Id="rId7" Type="http://schemas.openxmlformats.org/officeDocument/2006/relationships/hyperlink" Target="file:///../../../Protege/html%20files/Network%20characterization.html" TargetMode="External"/><Relationship Id="rId8" Type="http://schemas.openxmlformats.org/officeDocument/2006/relationships/hyperlink" Target="file:///../../../Protege/html%20files/Pre-Processing.html" TargetMode="External"/><Relationship Id="rId9" Type="http://schemas.openxmlformats.org/officeDocument/2006/relationships/hyperlink" Target="file:///../../../Protege/html%20files/Regulatory_Signaling%20network%20reconstruction.html" TargetMode="External"/><Relationship Id="rId10" Type="http://schemas.openxmlformats.org/officeDocument/2006/relationships/hyperlink" Target="file:///../../../Protege/html%20files/Sequence%20Annotation.html" TargetMode="External"/><Relationship Id="rId11" Type="http://schemas.openxmlformats.org/officeDocument/2006/relationships/hyperlink" Target="file:///../../../Protege/html%20files/Simulation.html" TargetMode="External"/><Relationship Id="rId12" Type="http://schemas.openxmlformats.org/officeDocument/2006/relationships/hyperlink" Target="file:///../../../Protege/html%20files/Software%20Engineering%20and%20Development%20Tools.html" TargetMode="External"/><Relationship Id="rId13" Type="http://schemas.openxmlformats.org/officeDocument/2006/relationships/hyperlink" Target="file:///../../../Protege/html%20files/Statistical%20Analysis.html" TargetMode="External"/><Relationship Id="rId14" Type="http://schemas.openxmlformats.org/officeDocument/2006/relationships/hyperlink" Target="file:///../../../Protege/html%20files/Structure-based%20protein%20classification.html" TargetMode="External"/><Relationship Id="rId15" Type="http://schemas.openxmlformats.org/officeDocument/2006/relationships/hyperlink" Target="file:///../../../Protege/html%20files/Toolkits.html" TargetMode="External"/><Relationship Id="rId16" Type="http://schemas.openxmlformats.org/officeDocument/2006/relationships/hyperlink" Target="file:///../../../Protege/html%20files/Toolkits.html#direct_instances" TargetMode="External"/><Relationship Id="rId17" Type="http://schemas.openxmlformats.org/officeDocument/2006/relationships/hyperlink" Target="file:///../../../Protege/html%20files/User%20and%20developer%20documentation.html" TargetMode="External"/><Relationship Id="rId18" Type="http://schemas.openxmlformats.org/officeDocument/2006/relationships/hyperlink" Target="file:///../../../Protege/html%20files/Visualization.html" TargetMode="External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Shape%20Analysis.html" TargetMode="External"/><Relationship Id="rId5" Type="http://schemas.openxmlformats.org/officeDocument/2006/relationships/hyperlink" Target="file:///../../../Protege/html%20files/Pattern%20Recognition.html" TargetMode="External"/><Relationship Id="rId6" Type="http://schemas.openxmlformats.org/officeDocument/2006/relationships/hyperlink" Target="file:///../../../Protege/html%20files/Genomic%20&amp;%20Phenotypic%20%20Data%20Analysis.html" TargetMode="External"/><Relationship Id="rId7" Type="http://schemas.openxmlformats.org/officeDocument/2006/relationships/hyperlink" Target="file:///../../../Protege/html%20files/Image%20Processing.html" TargetMode="External"/><Relationship Id="rId8" Type="http://schemas.openxmlformats.org/officeDocument/2006/relationships/hyperlink" Target="file:///../../../Protege/html%20files/Image%20Processing.html#direct_instances" TargetMode="External"/><Relationship Id="rId9" Type="http://schemas.openxmlformats.org/officeDocument/2006/relationships/hyperlink" Target="file:///../../../Protege/html%20files/Atlas%20Generation.html" TargetMode="External"/><Relationship Id="rId10" Type="http://schemas.openxmlformats.org/officeDocument/2006/relationships/hyperlink" Target="file:///../../../Protege/html%20files/Cortical%20Modeling.html" TargetMode="External"/><Relationship Id="rId11" Type="http://schemas.openxmlformats.org/officeDocument/2006/relationships/hyperlink" Target="file:///../../../Protege/html%20files/Registration.html" TargetMode="External"/><Relationship Id="rId12" Type="http://schemas.openxmlformats.org/officeDocument/2006/relationships/hyperlink" Target="file:///../../../Protege/html%20files/Segmentation.html" TargetMode="External"/><Relationship Id="rId13" Type="http://schemas.openxmlformats.org/officeDocument/2006/relationships/hyperlink" Target="file:///../../../Protege/html%20files/Network%20characterization.html" TargetMode="External"/><Relationship Id="rId14" Type="http://schemas.openxmlformats.org/officeDocument/2006/relationships/hyperlink" Target="file:///../../../Protege/html%20files/Pre-Processing.html" TargetMode="External"/><Relationship Id="rId15" Type="http://schemas.openxmlformats.org/officeDocument/2006/relationships/hyperlink" Target="file:///../../../Protege/html%20files/Data%20Transforms.html" TargetMode="External"/><Relationship Id="rId16" Type="http://schemas.openxmlformats.org/officeDocument/2006/relationships/hyperlink" Target="file:///../../../Protege/html%20files/Spectral%20Transforms.html" TargetMode="External"/><Relationship Id="rId17" Type="http://schemas.openxmlformats.org/officeDocument/2006/relationships/hyperlink" Target="file:///../../../Protege/html%20files/Fourier%20Transform.html" TargetMode="External"/><Relationship Id="rId18" Type="http://schemas.openxmlformats.org/officeDocument/2006/relationships/hyperlink" Target="file:///../../../Protege/html%20files/Wavelet%20Transform.html" TargetMode="External"/><Relationship Id="rId19" Type="http://schemas.openxmlformats.org/officeDocument/2006/relationships/hyperlink" Target="file:///../../../Protege/html%20files/Filtering.html" TargetMode="External"/><Relationship Id="rId20" Type="http://schemas.openxmlformats.org/officeDocument/2006/relationships/hyperlink" Target="file:///../../../Protege/html%20files/Skull%20Stripping.html" TargetMode="External"/><Relationship Id="rId21" Type="http://schemas.openxmlformats.org/officeDocument/2006/relationships/hyperlink" Target="file:///../../../Protege/html%20files/Inhomogeneity%20Correction.html" TargetMode="External"/><Relationship Id="rId22" Type="http://schemas.openxmlformats.org/officeDocument/2006/relationships/hyperlink" Target="file:///../../../Protege/html%20files/Inhomogeneity%20Correction.html" TargetMode="External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Regulatory_Signaling%20network%20reconstruction.html" TargetMode="External"/><Relationship Id="rId3" Type="http://schemas.openxmlformats.org/officeDocument/2006/relationships/hyperlink" Target="file:///../../../Protege/html%20files/Sequence%20Annotation.html" TargetMode="External"/><Relationship Id="rId4" Type="http://schemas.openxmlformats.org/officeDocument/2006/relationships/hyperlink" Target="file:///../../../Protege/html%20files/Simulation.html" TargetMode="External"/><Relationship Id="rId5" Type="http://schemas.openxmlformats.org/officeDocument/2006/relationships/hyperlink" Target="file:///../../../Protege/html%20files/Software%20Engineering%20and%20Development%20Tools.html" TargetMode="External"/><Relationship Id="rId6" Type="http://schemas.openxmlformats.org/officeDocument/2006/relationships/hyperlink" Target="file:///../../../Protege/html%20files/Cross-LanguageWrapping.html" TargetMode="External"/><Relationship Id="rId7" Type="http://schemas.openxmlformats.org/officeDocument/2006/relationships/hyperlink" Target="file:///../../../Protege/html%20files/Cross-LanguageWrapping.html" TargetMode="External"/><Relationship Id="rId8" Type="http://schemas.openxmlformats.org/officeDocument/2006/relationships/hyperlink" Target="file:///../../../Protege/html%20files/Cross-LanguageWrapping.html#direct_instances" TargetMode="External"/><Relationship Id="rId9" Type="http://schemas.openxmlformats.org/officeDocument/2006/relationships/hyperlink" Target="file:///../../../Protege/html%20files/Cross-Platform%20Tools.html" TargetMode="External"/><Relationship Id="rId10" Type="http://schemas.openxmlformats.org/officeDocument/2006/relationships/hyperlink" Target="file:///../../../Protege/html%20files/Cross-Platform%20Tools.html#direct_instances" TargetMode="External"/><Relationship Id="rId11" Type="http://schemas.openxmlformats.org/officeDocument/2006/relationships/hyperlink" Target="file:///../../../Protege/html%20files/Integration.html" TargetMode="External"/><Relationship Id="rId12" Type="http://schemas.openxmlformats.org/officeDocument/2006/relationships/hyperlink" Target="file:///../../../Protege/html%20files/Graphical%20e.g.,%20HIVE%20Pipeline.html" TargetMode="External"/><Relationship Id="rId13" Type="http://schemas.openxmlformats.org/officeDocument/2006/relationships/hyperlink" Target="file:///../../../Protege/html%20files/Grid%20Computing%20Resources.html" TargetMode="External"/><Relationship Id="rId14" Type="http://schemas.openxmlformats.org/officeDocument/2006/relationships/hyperlink" Target="file:///../../../Protege/html%20files/Mappers%20e.g.,%20BrainGraph%20BrainMapper.html" TargetMode="External"/><Relationship Id="rId15" Type="http://schemas.openxmlformats.org/officeDocument/2006/relationships/hyperlink" Target="file:///../../../Protege/html%20files/Mappers%20e.g.,%20BrainGraph%20BrainMapper.html" TargetMode="External"/><Relationship Id="rId16" Type="http://schemas.openxmlformats.org/officeDocument/2006/relationships/hyperlink" Target="file:///../../../Protege/html%20files/Mappers%20e.g.,%20BrainGraph%20BrainMapper.html" TargetMode="External"/><Relationship Id="rId17" Type="http://schemas.openxmlformats.org/officeDocument/2006/relationships/hyperlink" Target="file:///../../../Protege/html%20files/Mappers%20e.g.,%20BrainGraph%20BrainMapper.html" TargetMode="External"/><Relationship Id="rId18" Type="http://schemas.openxmlformats.org/officeDocument/2006/relationships/hyperlink" Target="file:///../../../Protege/html%20files/Mappers%20e.g.,%20BrainGraph%20BrainMapper.html" TargetMode="External"/><Relationship Id="rId19" Type="http://schemas.openxmlformats.org/officeDocument/2006/relationships/hyperlink" Target="file:///../../../Protege/html%20files/Portals.html" TargetMode="External"/><Relationship Id="rId20" Type="http://schemas.openxmlformats.org/officeDocument/2006/relationships/hyperlink" Target="file:///../../../Protege/html%20files/Resource%20Integration%20Components.html" TargetMode="External"/><Relationship Id="rId21" Type="http://schemas.openxmlformats.org/officeDocument/2006/relationships/hyperlink" Target="file:///../../../Protege/html%20files/Testing%20Tools.html" TargetMode="External"/><Relationship Id="rId22" Type="http://schemas.openxmlformats.org/officeDocument/2006/relationships/hyperlink" Target="file:///../../../Protege/html%20files/Testing%20Tools.html#direct_instances" TargetMode="External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Statistical%20Analysis.html" TargetMode="External"/><Relationship Id="rId3" Type="http://schemas.openxmlformats.org/officeDocument/2006/relationships/hyperlink" Target="file:///../../../Protege/html%20files/E.g.,%20R.html" TargetMode="External"/><Relationship Id="rId4" Type="http://schemas.openxmlformats.org/officeDocument/2006/relationships/hyperlink" Target="file:///../../../Protege/html%20files/Structure-based%20protein%20classification.html" TargetMode="External"/><Relationship Id="rId5" Type="http://schemas.openxmlformats.org/officeDocument/2006/relationships/hyperlink" Target="file:///../../../Protege/html%20files/Toolkits.html" TargetMode="External"/><Relationship Id="rId6" Type="http://schemas.openxmlformats.org/officeDocument/2006/relationships/hyperlink" Target="file:///../../../Protege/html%20files/Toolkits.html#direct_instances" TargetMode="External"/><Relationship Id="rId7" Type="http://schemas.openxmlformats.org/officeDocument/2006/relationships/hyperlink" Target="file:///../../../Protege/html%20files/User%20and%20developer%20documentation.html" TargetMode="External"/><Relationship Id="rId8" Type="http://schemas.openxmlformats.org/officeDocument/2006/relationships/hyperlink" Target="file:///../../../Protege/html%20files/Visualization.html" TargetMode="External"/><Relationship Id="rId9" Type="http://schemas.openxmlformats.org/officeDocument/2006/relationships/hyperlink" Target="file:///../../../Protege/html%20files/Clinical%20Charts%20e.g.,%20Demographics.html" TargetMode="External"/><Relationship Id="rId10" Type="http://schemas.openxmlformats.org/officeDocument/2006/relationships/hyperlink" Target="file:///../../../Protege/html%20files/Graph%20Viewers.html" TargetMode="External"/><Relationship Id="rId11" Type="http://schemas.openxmlformats.org/officeDocument/2006/relationships/hyperlink" Target="file:///../../../Protege/html%20files/Hyperbolic%20Graphs.html" TargetMode="External"/><Relationship Id="rId12" Type="http://schemas.openxmlformats.org/officeDocument/2006/relationships/hyperlink" Target="file:///../../../Protege/html%20files/Hierarchical%20Trees.html" TargetMode="External"/><Relationship Id="rId13" Type="http://schemas.openxmlformats.org/officeDocument/2006/relationships/hyperlink" Target="file:///../../../Protege/html%20files/Imaging.html" TargetMode="Externa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%20Management.html" TargetMode="External"/><Relationship Id="rId2" Type="http://schemas.openxmlformats.org/officeDocument/2006/relationships/hyperlink" Target="file:///../../../Protege/html%20files/Data%20Storage.html" TargetMode="External"/><Relationship Id="rId3" Type="http://schemas.openxmlformats.org/officeDocument/2006/relationships/hyperlink" Target="file:///../../../Protege/html%20files/Data%20Transfer.html" TargetMode="External"/><Relationship Id="rId4" Type="http://schemas.openxmlformats.org/officeDocument/2006/relationships/hyperlink" Target="file:///../../../Protege/html%20files/Information%20retrieval,%20traversal%20and%20querying.html" TargetMode="External"/><Relationship Id="rId5" Type="http://schemas.openxmlformats.org/officeDocument/2006/relationships/hyperlink" Target="file:///../../../Protege/html%20files/Ontology%20Development%20and%20Management.html" TargetMode="External"/><Relationship Id="rId6" Type="http://schemas.openxmlformats.org/officeDocument/2006/relationships/hyperlink" Target="file:///../../../Protege/html%20files/Data%20Annotation.html" TargetMode="External"/><Relationship Id="rId7" Type="http://schemas.openxmlformats.org/officeDocument/2006/relationships/hyperlink" Target="file:///../../../Protege/html%20files/Ontology%20Development.html" TargetMode="External"/><Relationship Id="rId8" Type="http://schemas.openxmlformats.org/officeDocument/2006/relationships/hyperlink" Target="file:///../../../Protege/html%20files/Ontology%20Diff%20and%20Alignment.html" TargetMode="External"/><Relationship Id="rId9" Type="http://schemas.openxmlformats.org/officeDocument/2006/relationships/hyperlink" Target="file:///../../../Protege/html%20files/Ontology%20Visualization.html" TargetMode="External"/><Relationship Id="rId10" Type="http://schemas.openxmlformats.org/officeDocument/2006/relationships/hyperlink" Target="file:///../../../Protege/html%20files/Programmatic%20Access.html" TargetMode="External"/><Relationship Id="rId11" Type="http://schemas.openxmlformats.org/officeDocument/2006/relationships/hyperlink" Target="file:///../../../Protege/html%20files/Web%20Access.html" TargetMode="Externa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.html" TargetMode="External"/><Relationship Id="rId2" Type="http://schemas.openxmlformats.org/officeDocument/2006/relationships/hyperlink" Target="file:///../../../Protege/html%20files/Clinical%20Information.html" TargetMode="External"/><Relationship Id="rId3" Type="http://schemas.openxmlformats.org/officeDocument/2006/relationships/hyperlink" Target="file:///../../../Protege/html%20files/Aggregate%20Human%20Data.html" TargetMode="External"/><Relationship Id="rId4" Type="http://schemas.openxmlformats.org/officeDocument/2006/relationships/hyperlink" Target="file:///../../../Protege/html%20files/Individual%20Human%20Data.html" TargetMode="External"/><Relationship Id="rId5" Type="http://schemas.openxmlformats.org/officeDocument/2006/relationships/hyperlink" Target="file:///../../../Protege/html%20files/Nonhuman%20Data.html" TargetMode="External"/><Relationship Id="rId6" Type="http://schemas.openxmlformats.org/officeDocument/2006/relationships/hyperlink" Target="file:///../../../Protege/html%20files/Experimental%20Data.html" TargetMode="External"/><Relationship Id="rId7" Type="http://schemas.openxmlformats.org/officeDocument/2006/relationships/hyperlink" Target="file:///../../../Protege/html%20files/Gene-Phenotype%20Association%20DB.html" TargetMode="External"/><Relationship Id="rId8" Type="http://schemas.openxmlformats.org/officeDocument/2006/relationships/hyperlink" Target="file:///../../../Protege/html%20files/Medical%20Images%20DB.html" TargetMode="External"/><Relationship Id="rId9" Type="http://schemas.openxmlformats.org/officeDocument/2006/relationships/hyperlink" Target="file:///../../../Protege/html%20files/Molecular%20Interaction%20DB.html" TargetMode="External"/><Relationship Id="rId10" Type="http://schemas.openxmlformats.org/officeDocument/2006/relationships/hyperlink" Target="file:///../../../Protege/html%20files/Ontologies.html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issemination.html" TargetMode="External"/><Relationship Id="rId2" Type="http://schemas.openxmlformats.org/officeDocument/2006/relationships/hyperlink" Target="file:///../../../Protege/html%20files/Interactive%20Web-Based%20Tools.html" TargetMode="External"/><Relationship Id="rId3" Type="http://schemas.openxmlformats.org/officeDocument/2006/relationships/hyperlink" Target="file:///../../../Protege/html%20files/Publication.html" TargetMode="External"/><Relationship Id="rId4" Type="http://schemas.openxmlformats.org/officeDocument/2006/relationships/hyperlink" Target="file:///../../../Protege/html%20files/Training%20Courses.html" TargetMode="External"/><Relationship Id="rId5" Type="http://schemas.openxmlformats.org/officeDocument/2006/relationships/hyperlink" Target="file:///../../../Protege/html%20files/Web%20Postings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Data%20Management.html" TargetMode="External"/><Relationship Id="rId3" Type="http://schemas.openxmlformats.org/officeDocument/2006/relationships/hyperlink" Target="file:///../../../Protege/html%20files/Ontology%20Development%20and%20Manageme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ules for a Tool and Data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AAF-B1EF-4FEC-B52C-134E4FA8D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nomic &amp; Phenotypic Data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 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etwork character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e-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ulatory/Signaling network reconstru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quence Anno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imul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oftware Engineering and Development Tool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tatistical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Structure-based protein classific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oolk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(4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User and developer documen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isua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00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7B8-B398-4C85-8FF6-C71132CB81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terms with ‘and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or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and/or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CBE-2169-40CA-9009-C824FB6DA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p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ttern Recog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nomic &amp; Phenotypic Data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age 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2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tlas Gen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ortical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g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work character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e-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ata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pectral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ourier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avelet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il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kull Stri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homogene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Cor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FD2-F0DD-43DA-B13D-31AD27F06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tory/Signaling network re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quence Ann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m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ftware Engineering and Development 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ross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anguage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1 inst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ross-Platform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g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cal e.g., HIVE 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id Computing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apper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e.g.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rainGrap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rainM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or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source Integration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sting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733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2743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BE1-F3D8-4CD5-AAB6-1A51BD065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ion is_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Engineering and Developmen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5A6-1ACB-4D30-819D-02782CE99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stical Analy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.g., 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ructure-based protein classific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lki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4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 and developer document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sualiz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inical Charts e.g., Demograph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 Viewer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yperbolic Graph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ierarchical Tre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al Vie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old Viewers 2D, 3D, 4D, 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CF2-CB99-453F-96E0-53C2F97D65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Stor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ta Transf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formation retrieval, traversal and query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ntology Development and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ata Anno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ology Develop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ntology Diff and Align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ntology Visualiz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grammatic Ac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447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637-5FB7-4A30-BA6B-2937D9B41C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be afraid to write down what seems triv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is_a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tool is_a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C96-9E01-4B12-86DB-FB004F42E1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H)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631-CE52-43A3-9492-CD9FEFF70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O-R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is_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 every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al-world examples, e.g. actual software tools, actual bodies of data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5DF-9CA6-42E0-9F7D-C35982956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kind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instanc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typ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ype, type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CC8-CA43-402D-8AEB-87C4B3A1D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nical Infor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gregate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dividual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on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xperimental Dat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ene-Phenotype Associa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edical Images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olecular Interac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tolog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5627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FCB-10B1-4B1F-B88F-1C31FA690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on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in th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tologies is_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F2B-5444-474A-A35E-D2C07D2015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active Web-Based Too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bl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aining Cours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eb Posting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ation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3623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15A-2BC5-4BEA-85B4-9DD8AFB2A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count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1F3-F4FC-480D-B6CC-EBEC2DA211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ntology Developmen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A23-1E6F-44F4-B89C-5F1E7B6F0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1:06:30Z</dcterms:created>
  <dc:creator>phismith</dc:creator>
  <dc:description/>
  <dc:language>en-US</dc:language>
  <cp:lastModifiedBy>phismith</cp:lastModifiedBy>
  <dcterms:modified xsi:type="dcterms:W3CDTF">2006-03-25T21:39:23Z</dcterms:modified>
  <cp:revision>6</cp:revision>
  <dc:subject/>
  <dc:title>NCBC_SDIWG_Data-n-Software_Ontology</dc:title>
</cp:coreProperties>
</file>